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2774880" cy="2763720"/>
          </a:xfrm>
          <a:custGeom>
            <a:avLst/>
            <a:gdLst/>
            <a:ahLst/>
            <a:rect l="l" t="t" r="r" b="b"/>
            <a:pathLst>
              <a:path w="7709" h="7679">
                <a:moveTo>
                  <a:pt x="0" y="0"/>
                </a:moveTo>
                <a:lnTo>
                  <a:pt x="76" y="7678"/>
                </a:lnTo>
                <a:lnTo>
                  <a:pt x="269" y="7673"/>
                </a:lnTo>
                <a:lnTo>
                  <a:pt x="462" y="7664"/>
                </a:lnTo>
                <a:lnTo>
                  <a:pt x="654" y="7650"/>
                </a:lnTo>
                <a:lnTo>
                  <a:pt x="846" y="7632"/>
                </a:lnTo>
                <a:lnTo>
                  <a:pt x="1037" y="7608"/>
                </a:lnTo>
                <a:lnTo>
                  <a:pt x="1228" y="7580"/>
                </a:lnTo>
                <a:lnTo>
                  <a:pt x="1418" y="7547"/>
                </a:lnTo>
                <a:lnTo>
                  <a:pt x="1607" y="7509"/>
                </a:lnTo>
                <a:lnTo>
                  <a:pt x="1795" y="7467"/>
                </a:lnTo>
                <a:lnTo>
                  <a:pt x="1982" y="7420"/>
                </a:lnTo>
                <a:lnTo>
                  <a:pt x="2168" y="7368"/>
                </a:lnTo>
                <a:lnTo>
                  <a:pt x="2352" y="7312"/>
                </a:lnTo>
                <a:lnTo>
                  <a:pt x="2535" y="7251"/>
                </a:lnTo>
                <a:lnTo>
                  <a:pt x="2716" y="7186"/>
                </a:lnTo>
                <a:lnTo>
                  <a:pt x="2896" y="7116"/>
                </a:lnTo>
                <a:lnTo>
                  <a:pt x="3073" y="7041"/>
                </a:lnTo>
                <a:lnTo>
                  <a:pt x="3249" y="6962"/>
                </a:lnTo>
                <a:lnTo>
                  <a:pt x="3423" y="6879"/>
                </a:lnTo>
                <a:lnTo>
                  <a:pt x="3595" y="6792"/>
                </a:lnTo>
                <a:lnTo>
                  <a:pt x="3764" y="6700"/>
                </a:lnTo>
                <a:lnTo>
                  <a:pt x="3931" y="6604"/>
                </a:lnTo>
                <a:lnTo>
                  <a:pt x="4096" y="6504"/>
                </a:lnTo>
                <a:lnTo>
                  <a:pt x="4258" y="6400"/>
                </a:lnTo>
                <a:lnTo>
                  <a:pt x="4417" y="6292"/>
                </a:lnTo>
                <a:lnTo>
                  <a:pt x="4574" y="6180"/>
                </a:lnTo>
                <a:lnTo>
                  <a:pt x="4728" y="6064"/>
                </a:lnTo>
                <a:lnTo>
                  <a:pt x="4878" y="5945"/>
                </a:lnTo>
                <a:lnTo>
                  <a:pt x="5026" y="5821"/>
                </a:lnTo>
                <a:lnTo>
                  <a:pt x="5171" y="5694"/>
                </a:lnTo>
                <a:lnTo>
                  <a:pt x="5312" y="5564"/>
                </a:lnTo>
                <a:lnTo>
                  <a:pt x="5450" y="5429"/>
                </a:lnTo>
                <a:lnTo>
                  <a:pt x="5585" y="5292"/>
                </a:lnTo>
                <a:lnTo>
                  <a:pt x="5716" y="5151"/>
                </a:lnTo>
                <a:lnTo>
                  <a:pt x="5843" y="5007"/>
                </a:lnTo>
                <a:lnTo>
                  <a:pt x="5967" y="4860"/>
                </a:lnTo>
                <a:lnTo>
                  <a:pt x="6087" y="4710"/>
                </a:lnTo>
                <a:lnTo>
                  <a:pt x="6204" y="4557"/>
                </a:lnTo>
                <a:lnTo>
                  <a:pt x="6316" y="4401"/>
                </a:lnTo>
                <a:lnTo>
                  <a:pt x="6425" y="4242"/>
                </a:lnTo>
                <a:lnTo>
                  <a:pt x="6529" y="4081"/>
                </a:lnTo>
                <a:lnTo>
                  <a:pt x="6630" y="3917"/>
                </a:lnTo>
                <a:lnTo>
                  <a:pt x="6726" y="3750"/>
                </a:lnTo>
                <a:lnTo>
                  <a:pt x="6818" y="3581"/>
                </a:lnTo>
                <a:lnTo>
                  <a:pt x="6906" y="3410"/>
                </a:lnTo>
                <a:lnTo>
                  <a:pt x="6989" y="3237"/>
                </a:lnTo>
                <a:lnTo>
                  <a:pt x="7068" y="3062"/>
                </a:lnTo>
                <a:lnTo>
                  <a:pt x="7143" y="2885"/>
                </a:lnTo>
                <a:lnTo>
                  <a:pt x="7213" y="2706"/>
                </a:lnTo>
                <a:lnTo>
                  <a:pt x="7279" y="2526"/>
                </a:lnTo>
                <a:lnTo>
                  <a:pt x="7340" y="2344"/>
                </a:lnTo>
                <a:lnTo>
                  <a:pt x="7397" y="2160"/>
                </a:lnTo>
                <a:lnTo>
                  <a:pt x="7449" y="1975"/>
                </a:lnTo>
                <a:lnTo>
                  <a:pt x="7496" y="1789"/>
                </a:lnTo>
                <a:lnTo>
                  <a:pt x="7538" y="1601"/>
                </a:lnTo>
                <a:lnTo>
                  <a:pt x="7576" y="1413"/>
                </a:lnTo>
                <a:lnTo>
                  <a:pt x="7609" y="1224"/>
                </a:lnTo>
                <a:lnTo>
                  <a:pt x="7638" y="1034"/>
                </a:lnTo>
                <a:lnTo>
                  <a:pt x="7661" y="843"/>
                </a:lnTo>
                <a:lnTo>
                  <a:pt x="7680" y="652"/>
                </a:lnTo>
                <a:lnTo>
                  <a:pt x="7694" y="461"/>
                </a:lnTo>
                <a:lnTo>
                  <a:pt x="7703" y="269"/>
                </a:lnTo>
                <a:lnTo>
                  <a:pt x="7708" y="77"/>
                </a:lnTo>
                <a:lnTo>
                  <a:pt x="0" y="0"/>
                </a:lnTo>
              </a:path>
            </a:pathLst>
          </a:custGeom>
          <a:gradFill rotWithShape="0">
            <a:gsLst>
              <a:gs pos="0">
                <a:srgbClr val="e5e5e5"/>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 name=""/>
          <p:cNvSpPr/>
          <p:nvPr/>
        </p:nvSpPr>
        <p:spPr>
          <a:xfrm>
            <a:off x="8128080" y="5715000"/>
            <a:ext cx="1976400" cy="1863720"/>
          </a:xfrm>
          <a:custGeom>
            <a:avLst/>
            <a:gdLst/>
            <a:ahLst/>
            <a:rect l="l" t="t" r="r" b="b"/>
            <a:pathLst>
              <a:path w="5488" h="5177">
                <a:moveTo>
                  <a:pt x="5432" y="5124"/>
                </a:moveTo>
                <a:lnTo>
                  <a:pt x="5487" y="0"/>
                </a:lnTo>
                <a:lnTo>
                  <a:pt x="5350" y="1"/>
                </a:lnTo>
                <a:lnTo>
                  <a:pt x="5213" y="4"/>
                </a:lnTo>
                <a:lnTo>
                  <a:pt x="5076" y="11"/>
                </a:lnTo>
                <a:lnTo>
                  <a:pt x="4939" y="21"/>
                </a:lnTo>
                <a:lnTo>
                  <a:pt x="4803" y="34"/>
                </a:lnTo>
                <a:lnTo>
                  <a:pt x="4667" y="51"/>
                </a:lnTo>
                <a:lnTo>
                  <a:pt x="4531" y="71"/>
                </a:lnTo>
                <a:lnTo>
                  <a:pt x="4396" y="94"/>
                </a:lnTo>
                <a:lnTo>
                  <a:pt x="4262" y="120"/>
                </a:lnTo>
                <a:lnTo>
                  <a:pt x="4128" y="150"/>
                </a:lnTo>
                <a:lnTo>
                  <a:pt x="3996" y="182"/>
                </a:lnTo>
                <a:lnTo>
                  <a:pt x="3864" y="218"/>
                </a:lnTo>
                <a:lnTo>
                  <a:pt x="3733" y="257"/>
                </a:lnTo>
                <a:lnTo>
                  <a:pt x="3603" y="299"/>
                </a:lnTo>
                <a:lnTo>
                  <a:pt x="3475" y="344"/>
                </a:lnTo>
                <a:lnTo>
                  <a:pt x="3347" y="392"/>
                </a:lnTo>
                <a:lnTo>
                  <a:pt x="3221" y="444"/>
                </a:lnTo>
                <a:lnTo>
                  <a:pt x="3097" y="498"/>
                </a:lnTo>
                <a:lnTo>
                  <a:pt x="2973" y="555"/>
                </a:lnTo>
                <a:lnTo>
                  <a:pt x="2852" y="615"/>
                </a:lnTo>
                <a:lnTo>
                  <a:pt x="2732" y="678"/>
                </a:lnTo>
                <a:lnTo>
                  <a:pt x="2614" y="744"/>
                </a:lnTo>
                <a:lnTo>
                  <a:pt x="2497" y="812"/>
                </a:lnTo>
                <a:lnTo>
                  <a:pt x="2383" y="883"/>
                </a:lnTo>
                <a:lnTo>
                  <a:pt x="2270" y="957"/>
                </a:lnTo>
                <a:lnTo>
                  <a:pt x="2160" y="1034"/>
                </a:lnTo>
                <a:lnTo>
                  <a:pt x="2051" y="1113"/>
                </a:lnTo>
                <a:lnTo>
                  <a:pt x="1945" y="1195"/>
                </a:lnTo>
                <a:lnTo>
                  <a:pt x="1841" y="1279"/>
                </a:lnTo>
                <a:lnTo>
                  <a:pt x="1739" y="1366"/>
                </a:lnTo>
                <a:lnTo>
                  <a:pt x="1640" y="1455"/>
                </a:lnTo>
                <a:lnTo>
                  <a:pt x="1543" y="1547"/>
                </a:lnTo>
                <a:lnTo>
                  <a:pt x="1448" y="1641"/>
                </a:lnTo>
                <a:lnTo>
                  <a:pt x="1356" y="1737"/>
                </a:lnTo>
                <a:lnTo>
                  <a:pt x="1267" y="1835"/>
                </a:lnTo>
                <a:lnTo>
                  <a:pt x="1180" y="1935"/>
                </a:lnTo>
                <a:lnTo>
                  <a:pt x="1096" y="2037"/>
                </a:lnTo>
                <a:lnTo>
                  <a:pt x="1015" y="2142"/>
                </a:lnTo>
                <a:lnTo>
                  <a:pt x="936" y="2248"/>
                </a:lnTo>
                <a:lnTo>
                  <a:pt x="861" y="2356"/>
                </a:lnTo>
                <a:lnTo>
                  <a:pt x="788" y="2466"/>
                </a:lnTo>
                <a:lnTo>
                  <a:pt x="719" y="2577"/>
                </a:lnTo>
                <a:lnTo>
                  <a:pt x="652" y="2690"/>
                </a:lnTo>
                <a:lnTo>
                  <a:pt x="588" y="2805"/>
                </a:lnTo>
                <a:lnTo>
                  <a:pt x="528" y="2921"/>
                </a:lnTo>
                <a:lnTo>
                  <a:pt x="470" y="3039"/>
                </a:lnTo>
                <a:lnTo>
                  <a:pt x="416" y="3157"/>
                </a:lnTo>
                <a:lnTo>
                  <a:pt x="365" y="3278"/>
                </a:lnTo>
                <a:lnTo>
                  <a:pt x="317" y="3399"/>
                </a:lnTo>
                <a:lnTo>
                  <a:pt x="273" y="3521"/>
                </a:lnTo>
                <a:lnTo>
                  <a:pt x="231" y="3645"/>
                </a:lnTo>
                <a:lnTo>
                  <a:pt x="193" y="3769"/>
                </a:lnTo>
                <a:lnTo>
                  <a:pt x="159" y="3894"/>
                </a:lnTo>
                <a:lnTo>
                  <a:pt x="128" y="4020"/>
                </a:lnTo>
                <a:lnTo>
                  <a:pt x="100" y="4147"/>
                </a:lnTo>
                <a:lnTo>
                  <a:pt x="75" y="4274"/>
                </a:lnTo>
                <a:lnTo>
                  <a:pt x="54" y="4402"/>
                </a:lnTo>
                <a:lnTo>
                  <a:pt x="37" y="4531"/>
                </a:lnTo>
                <a:lnTo>
                  <a:pt x="22" y="4659"/>
                </a:lnTo>
                <a:lnTo>
                  <a:pt x="12" y="4788"/>
                </a:lnTo>
                <a:lnTo>
                  <a:pt x="4" y="4918"/>
                </a:lnTo>
                <a:lnTo>
                  <a:pt x="1" y="5047"/>
                </a:lnTo>
                <a:lnTo>
                  <a:pt x="0" y="5176"/>
                </a:lnTo>
                <a:lnTo>
                  <a:pt x="5432" y="5124"/>
                </a:lnTo>
              </a:path>
            </a:pathLst>
          </a:custGeom>
          <a:gradFill rotWithShape="0">
            <a:gsLst>
              <a:gs pos="0">
                <a:srgbClr val="e5e5e5"/>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 name=""/>
          <p:cNvSpPr/>
          <p:nvPr/>
        </p:nvSpPr>
        <p:spPr>
          <a:xfrm>
            <a:off x="353880" y="7116840"/>
            <a:ext cx="3538800" cy="225360"/>
          </a:xfrm>
          <a:prstGeom prst="rect">
            <a:avLst/>
          </a:prstGeom>
          <a:noFill/>
          <a:ln w="0">
            <a:noFill/>
          </a:ln>
        </p:spPr>
        <p:style>
          <a:lnRef idx="0"/>
          <a:fillRef idx="0"/>
          <a:effectRef idx="0"/>
          <a:fontRef idx="minor"/>
        </p:style>
        <p:txBody>
          <a:bodyPr lIns="0" rIns="0" tIns="14040" bIns="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de-DE" sz="1600" spc="-1" strike="noStrike">
                <a:solidFill>
                  <a:srgbClr val="000000"/>
                </a:solidFill>
                <a:latin typeface="Times New Roman"/>
              </a:rPr>
              <a:t>Autor:    02.04.12</a:t>
            </a:r>
            <a:endParaRPr b="0" lang="en-US" sz="1600" spc="-1" strike="noStrike">
              <a:solidFill>
                <a:srgbClr val="000000"/>
              </a:solidFill>
              <a:latin typeface="Times New Roman"/>
            </a:endParaRPr>
          </a:p>
        </p:txBody>
      </p:sp>
      <p:sp>
        <p:nvSpPr>
          <p:cNvPr id="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mbb.univ-montp2.fr/"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rocksclusters.org/"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03280" y="301680"/>
            <a:ext cx="9070920" cy="6456240"/>
          </a:xfrm>
          <a:prstGeom prst="rect">
            <a:avLst/>
          </a:prstGeom>
          <a:noFill/>
          <a:ln w="0">
            <a:noFill/>
          </a:ln>
        </p:spPr>
        <p:style>
          <a:lnRef idx="0"/>
          <a:fillRef idx="0"/>
          <a:effectRef idx="0"/>
          <a:fontRef idx="minor"/>
        </p:style>
        <p:txBody>
          <a:bodyPr lIns="0" rIns="0" tIns="424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4800" spc="-1" strike="noStrike">
                <a:solidFill>
                  <a:srgbClr val="000000"/>
                </a:solidFill>
                <a:latin typeface="Times New Roman"/>
              </a:rPr>
              <a:t>CeMEB</a:t>
            </a:r>
            <a:endParaRPr b="0" lang="en-US" sz="4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4800" spc="-1" strike="noStrike">
                <a:solidFill>
                  <a:srgbClr val="000000"/>
                </a:solidFill>
                <a:latin typeface="Times New Roman"/>
              </a:rPr>
              <a:t>La plateforme</a:t>
            </a:r>
            <a:endParaRPr b="0" lang="en-US" sz="4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4800" spc="-1" strike="noStrike">
                <a:solidFill>
                  <a:srgbClr val="000000"/>
                </a:solidFill>
                <a:latin typeface="Times New Roman"/>
              </a:rPr>
              <a:t>MBB</a:t>
            </a:r>
            <a:endParaRPr b="0" lang="en-US" sz="4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4800" spc="-1" strike="noStrike" u="sng">
                <a:solidFill>
                  <a:srgbClr val="ccccff"/>
                </a:solidFill>
                <a:uFillTx/>
                <a:latin typeface="Times New Roman"/>
                <a:hlinkClick r:id="rId1"/>
              </a:rPr>
              <a:t>http://mbb.univ-montp2.fr</a:t>
            </a:r>
            <a:endParaRPr b="0" lang="en-US" sz="4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4400" spc="-1" strike="noStrike">
                <a:solidFill>
                  <a:srgbClr val="000000"/>
                </a:solidFill>
                <a:latin typeface="Times New Roman"/>
              </a:rPr>
              <a:t>Sur le plan technique</a:t>
            </a:r>
            <a:endParaRPr b="0" lang="en-US" sz="4400" spc="-1" strike="noStrike">
              <a:solidFill>
                <a:srgbClr val="000000"/>
              </a:solidFill>
              <a:latin typeface="Times New Roman"/>
            </a:endParaRPr>
          </a:p>
        </p:txBody>
      </p:sp>
      <p:sp>
        <p:nvSpPr>
          <p:cNvPr id="5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gn="just">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rPr>
              <a:t>Cluster sous Linux CentOS </a:t>
            </a:r>
            <a:r>
              <a:rPr b="0" i="1" lang="de-DE" sz="3200" spc="-1" strike="noStrike">
                <a:solidFill>
                  <a:srgbClr val="000000"/>
                </a:solidFill>
                <a:latin typeface="Times New Roman"/>
              </a:rPr>
              <a:t>Rocks Cluster (</a:t>
            </a:r>
            <a:r>
              <a:rPr b="0" lang="de-DE" sz="3200" spc="-1" strike="noStrike" u="sng">
                <a:solidFill>
                  <a:srgbClr val="ccccff"/>
                </a:solidFill>
                <a:uFillTx/>
                <a:latin typeface="Times New Roman"/>
                <a:hlinkClick r:id="rId1"/>
              </a:rPr>
              <a:t>www.rocksclusters.org</a:t>
            </a:r>
            <a:r>
              <a:rPr b="0" i="1" lang="de-DE" sz="3200" spc="-1" strike="noStrike">
                <a:solidFill>
                  <a:srgbClr val="000000"/>
                </a:solidFill>
                <a:latin typeface="Times New Roman"/>
              </a:rPr>
              <a:t>)</a:t>
            </a:r>
            <a:endParaRPr b="0" lang="en-US" sz="3200" spc="-1" strike="noStrike">
              <a:solidFill>
                <a:srgbClr val="000000"/>
              </a:solidFill>
              <a:latin typeface="Times New Roman"/>
            </a:endParaRPr>
          </a:p>
          <a:p>
            <a:pPr marL="431640" indent="-323640" algn="just">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ea typeface="msgothic"/>
              </a:rPr>
              <a:t>Environ 85 logiciels installés qui ont nécessité une vingtaine de librairies spécifiques.</a:t>
            </a:r>
            <a:endParaRPr b="0" lang="en-US" sz="3200" spc="-1" strike="noStrike">
              <a:solidFill>
                <a:srgbClr val="000000"/>
              </a:solidFill>
              <a:latin typeface="Times New Roman"/>
            </a:endParaRPr>
          </a:p>
          <a:p>
            <a:pPr marL="431640" indent="-323640" algn="just">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ea typeface="msgothic"/>
              </a:rPr>
              <a:t>65 outils accessibles en ligne</a:t>
            </a:r>
            <a:endParaRPr b="0" lang="en-US" sz="3200" spc="-1" strike="noStrike">
              <a:solidFill>
                <a:srgbClr val="000000"/>
              </a:solidFill>
              <a:latin typeface="Times New Roman"/>
            </a:endParaRPr>
          </a:p>
          <a:p>
            <a:pPr marL="431640" indent="-323640" algn="just">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ea typeface="msgothic"/>
              </a:rPr>
              <a:t>dont 28 outils développés par des laboratoires membres du LabEx</a:t>
            </a:r>
            <a:endParaRPr b="0" lang="en-US" sz="3200" spc="-1" strike="noStrike">
              <a:solidFill>
                <a:srgbClr val="000000"/>
              </a:solidFill>
              <a:latin typeface="Times New Roman"/>
            </a:endParaRPr>
          </a:p>
          <a:p>
            <a:pPr marL="431640" indent="0" algn="just">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4400" spc="-1" strike="noStrike">
                <a:solidFill>
                  <a:srgbClr val="000000"/>
                </a:solidFill>
                <a:latin typeface="Times New Roman"/>
              </a:rPr>
              <a:t>Sur le plan technique</a:t>
            </a:r>
            <a:endParaRPr b="0" lang="en-US" sz="4400" spc="-1" strike="noStrike">
              <a:solidFill>
                <a:srgbClr val="000000"/>
              </a:solidFill>
              <a:latin typeface="Times New Roman"/>
            </a:endParaRPr>
          </a:p>
        </p:txBody>
      </p:sp>
      <p:sp>
        <p:nvSpPr>
          <p:cNvPr id="61"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rPr>
              <a:t>D'un point de vue matériel :</a:t>
            </a:r>
            <a:endParaRPr b="0" lang="en-US" sz="3200" spc="-1" strike="noStrike">
              <a:solidFill>
                <a:srgbClr val="000000"/>
              </a:solidFill>
              <a:latin typeface="Times New Roman"/>
            </a:endParaRPr>
          </a:p>
          <a:p>
            <a:pPr lvl="1" marL="1727280" indent="-57312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800" spc="-1" strike="noStrike">
                <a:solidFill>
                  <a:srgbClr val="000000"/>
                </a:solidFill>
                <a:latin typeface="Times New Roman"/>
              </a:rPr>
              <a:t>13 nœuds de calcul</a:t>
            </a:r>
            <a:endParaRPr b="0" lang="en-US" sz="2800" spc="-1" strike="noStrike">
              <a:solidFill>
                <a:srgbClr val="000000"/>
              </a:solidFill>
              <a:latin typeface="Times New Roman"/>
            </a:endParaRPr>
          </a:p>
          <a:p>
            <a:pPr lvl="1" marL="1727280" indent="-57312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800" spc="-1" strike="noStrike">
                <a:solidFill>
                  <a:srgbClr val="000000"/>
                </a:solidFill>
                <a:latin typeface="Times New Roman"/>
              </a:rPr>
              <a:t>2 petits serveurs de stockage - NAS</a:t>
            </a:r>
            <a:endParaRPr b="0" lang="en-US" sz="2800" spc="-1" strike="noStrike">
              <a:solidFill>
                <a:srgbClr val="000000"/>
              </a:solidFill>
              <a:latin typeface="Times New Roman"/>
            </a:endParaRPr>
          </a:p>
          <a:p>
            <a:pPr lvl="1" marL="1727280" indent="-57312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800" spc="-1" strike="noStrike">
                <a:solidFill>
                  <a:srgbClr val="000000"/>
                </a:solidFill>
                <a:latin typeface="Times New Roman"/>
              </a:rPr>
              <a:t>1 machine de management du cluster – Frontend</a:t>
            </a:r>
            <a:endParaRPr b="0" lang="en-US" sz="2800" spc="-1" strike="noStrike">
              <a:solidFill>
                <a:srgbClr val="000000"/>
              </a:solidFill>
              <a:latin typeface="Times New Roman"/>
            </a:endParaRPr>
          </a:p>
          <a:p>
            <a:pPr lvl="1" marL="1727280" indent="-57312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800" spc="-1" strike="noStrike">
                <a:solidFill>
                  <a:srgbClr val="000000"/>
                </a:solidFill>
                <a:latin typeface="Times New Roman"/>
              </a:rPr>
              <a:t>1 serveur Web</a:t>
            </a:r>
            <a:endParaRPr b="0" lang="en-US" sz="2800" spc="-1" strike="noStrike">
              <a:solidFill>
                <a:srgbClr val="000000"/>
              </a:solidFill>
              <a:latin typeface="Times New Roman"/>
            </a:endParaRPr>
          </a:p>
          <a:p>
            <a:pPr lvl="1" marL="1727280" indent="-57312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800" spc="-1" strike="noStrike">
                <a:solidFill>
                  <a:srgbClr val="000000"/>
                </a:solidFill>
                <a:latin typeface="Times New Roman"/>
              </a:rPr>
              <a:t>104 cœurs, 528 Go de RAM et 2 NAS (au total environ 8To).</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pic>
        <p:nvPicPr>
          <p:cNvPr id="63" name="" descr=""/>
          <p:cNvPicPr/>
          <p:nvPr/>
        </p:nvPicPr>
        <p:blipFill>
          <a:blip r:embed="rId1"/>
          <a:stretch/>
        </p:blipFill>
        <p:spPr>
          <a:xfrm>
            <a:off x="-1905120" y="0"/>
            <a:ext cx="13909680" cy="7559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4400" spc="-1" strike="noStrike">
                <a:solidFill>
                  <a:srgbClr val="000000"/>
                </a:solidFill>
                <a:latin typeface="Times New Roman"/>
              </a:rPr>
              <a:t>Du côté du site Web</a:t>
            </a:r>
            <a:endParaRPr b="0" lang="en-US" sz="4400" spc="-1" strike="noStrike">
              <a:solidFill>
                <a:srgbClr val="000000"/>
              </a:solidFill>
              <a:latin typeface="Times New Roman"/>
            </a:endParaRPr>
          </a:p>
        </p:txBody>
      </p:sp>
      <p:sp>
        <p:nvSpPr>
          <p:cNvPr id="65" name="PlaceHolder 2"/>
          <p:cNvSpPr>
            <a:spLocks noGrp="1"/>
          </p:cNvSpPr>
          <p:nvPr>
            <p:ph/>
          </p:nvPr>
        </p:nvSpPr>
        <p:spPr>
          <a:xfrm>
            <a:off x="502920" y="1768320"/>
            <a:ext cx="9070920" cy="5811840"/>
          </a:xfrm>
          <a:prstGeom prst="rect">
            <a:avLst/>
          </a:prstGeom>
          <a:noFill/>
          <a:ln w="0">
            <a:noFill/>
          </a:ln>
        </p:spPr>
        <p:txBody>
          <a:bodyPr lIns="0" rIns="0" tIns="28080" bIns="0" anchor="t">
            <a:normAutofit fontScale="99000"/>
          </a:bodyPr>
          <a:p>
            <a:pPr marL="427320" indent="-320400" algn="just">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rPr>
              <a:t>Site développé en HTML/CSS/Javascript + PHP/MySQL</a:t>
            </a:r>
            <a:endParaRPr b="0" lang="en-US" sz="3200" spc="-1" strike="noStrike">
              <a:solidFill>
                <a:srgbClr val="000000"/>
              </a:solidFill>
              <a:latin typeface="Times New Roman"/>
            </a:endParaRPr>
          </a:p>
          <a:p>
            <a:pPr marL="427320" indent="-320400" algn="just">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rPr>
              <a:t>Des récupérations de contenu bibliographiques hebdomadaires</a:t>
            </a:r>
            <a:r>
              <a:rPr b="0" i="1" lang="de-DE" sz="3200" spc="-1" strike="noStrike">
                <a:solidFill>
                  <a:srgbClr val="000000"/>
                </a:solidFill>
                <a:latin typeface="Times New Roman"/>
              </a:rPr>
              <a:t> </a:t>
            </a:r>
            <a:r>
              <a:rPr b="0" lang="de-DE" sz="3200" spc="-1" strike="noStrike">
                <a:solidFill>
                  <a:srgbClr val="000000"/>
                </a:solidFill>
                <a:latin typeface="Times New Roman"/>
              </a:rPr>
              <a:t>grâce aux services Web rss de pubmed.</a:t>
            </a:r>
            <a:endParaRPr b="0" lang="en-US" sz="3200" spc="-1" strike="noStrike">
              <a:solidFill>
                <a:srgbClr val="000000"/>
              </a:solidFill>
              <a:latin typeface="Times New Roman"/>
            </a:endParaRPr>
          </a:p>
          <a:p>
            <a:pPr marL="427320" indent="-320400" algn="just">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rPr>
              <a:t>Du point de vue de l'administration de la plateforme :</a:t>
            </a:r>
            <a:endParaRPr b="0" lang="en-US" sz="3200" spc="-1" strike="noStrike">
              <a:solidFill>
                <a:srgbClr val="000000"/>
              </a:solidFill>
              <a:latin typeface="Times New Roman"/>
            </a:endParaRPr>
          </a:p>
          <a:p>
            <a:pPr lvl="1" marL="1710000" indent="-567360" algn="just">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800" spc="-1" strike="noStrike">
                <a:solidFill>
                  <a:srgbClr val="000000"/>
                </a:solidFill>
                <a:latin typeface="Times New Roman"/>
              </a:rPr>
              <a:t>5 sections, 5 thématiques différentes (NGS, Phylogenomics, Population Genetics, Population Dynamics, Ecological Modelling)</a:t>
            </a:r>
            <a:endParaRPr b="0" lang="en-US" sz="2800" spc="-1" strike="noStrike">
              <a:solidFill>
                <a:srgbClr val="000000"/>
              </a:solidFill>
              <a:latin typeface="Times New Roman"/>
            </a:endParaRPr>
          </a:p>
          <a:p>
            <a:pPr lvl="1" marL="1710000" indent="-567360" algn="just">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800" spc="-1" strike="noStrike">
                <a:solidFill>
                  <a:srgbClr val="000000"/>
                </a:solidFill>
                <a:latin typeface="Times New Roman"/>
              </a:rPr>
              <a:t>Environ plus de 2000 jobs lancés depuis janvier 2011.</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pic>
        <p:nvPicPr>
          <p:cNvPr id="67" name="" descr=""/>
          <p:cNvPicPr/>
          <p:nvPr/>
        </p:nvPicPr>
        <p:blipFill>
          <a:blip r:embed="rId1"/>
          <a:stretch/>
        </p:blipFill>
        <p:spPr>
          <a:xfrm>
            <a:off x="-561960" y="0"/>
            <a:ext cx="12283920" cy="7559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4400" spc="-1" strike="noStrike">
                <a:solidFill>
                  <a:srgbClr val="000000"/>
                </a:solidFill>
                <a:latin typeface="Times New Roman"/>
              </a:rPr>
              <a:t>Du côté du site Web</a:t>
            </a:r>
            <a:endParaRPr b="0" lang="en-US" sz="4400" spc="-1" strike="noStrike">
              <a:solidFill>
                <a:srgbClr val="000000"/>
              </a:solidFill>
              <a:latin typeface="Times New Roman"/>
            </a:endParaRPr>
          </a:p>
        </p:txBody>
      </p:sp>
      <p:sp>
        <p:nvSpPr>
          <p:cNvPr id="6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888840" indent="-550800" algn="just">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rPr>
              <a:t>Une administration décentralisée : gestion des groupes (labo) par un administrateur local.</a:t>
            </a:r>
            <a:endParaRPr b="0" lang="en-US" sz="3200" spc="-1" strike="noStrike">
              <a:solidFill>
                <a:srgbClr val="000000"/>
              </a:solidFill>
              <a:latin typeface="Times New Roman"/>
            </a:endParaRPr>
          </a:p>
          <a:p>
            <a:pPr marL="888840" indent="-550800" algn="just">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rPr>
              <a:t>Cet administrateur local peut créer des utilisateurs et attribuer des niveaux de visibilité différents pour les outils mis en ligne.</a:t>
            </a:r>
            <a:endParaRPr b="0" lang="en-US" sz="3200" spc="-1" strike="noStrike">
              <a:solidFill>
                <a:srgbClr val="000000"/>
              </a:solidFill>
              <a:latin typeface="Times New Roman"/>
            </a:endParaRPr>
          </a:p>
          <a:p>
            <a:pPr lvl="1" marL="1727280" indent="-573120" algn="just">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800" spc="-1" strike="noStrike">
                <a:solidFill>
                  <a:srgbClr val="000000"/>
                </a:solidFill>
                <a:latin typeface="Times New Roman"/>
              </a:rPr>
              <a:t>Actuellement : environ 30 utilisateurs et 4 groupes</a:t>
            </a:r>
            <a:endParaRPr b="0" lang="en-US" sz="2800" spc="-1" strike="noStrike">
              <a:solidFill>
                <a:srgbClr val="000000"/>
              </a:solidFill>
              <a:latin typeface="Times New Roman"/>
            </a:endParaRPr>
          </a:p>
          <a:p>
            <a:pPr marL="888840" indent="-550800" algn="just">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rPr>
              <a:t>Un outil de monitoring des ressources (espace utilisé, charge temps réel, historique des actions sur la plateforme, historique des jobs).</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pic>
        <p:nvPicPr>
          <p:cNvPr id="71" name="" descr=""/>
          <p:cNvPicPr/>
          <p:nvPr/>
        </p:nvPicPr>
        <p:blipFill>
          <a:blip r:embed="rId1"/>
          <a:stretch/>
        </p:blipFill>
        <p:spPr>
          <a:xfrm>
            <a:off x="-990720" y="0"/>
            <a:ext cx="12052440" cy="7559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pic>
        <p:nvPicPr>
          <p:cNvPr id="73" name="" descr=""/>
          <p:cNvPicPr/>
          <p:nvPr/>
        </p:nvPicPr>
        <p:blipFill>
          <a:blip r:embed="rId1"/>
          <a:stretch/>
        </p:blipFill>
        <p:spPr>
          <a:xfrm>
            <a:off x="-1720800" y="0"/>
            <a:ext cx="13017600" cy="7559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4400" spc="-1" strike="noStrike">
                <a:solidFill>
                  <a:srgbClr val="000000"/>
                </a:solidFill>
                <a:latin typeface="Times New Roman"/>
              </a:rPr>
              <a:t>A l'interface</a:t>
            </a:r>
            <a:endParaRPr b="0" lang="en-US" sz="4400" spc="-1" strike="noStrike">
              <a:solidFill>
                <a:srgbClr val="000000"/>
              </a:solidFill>
              <a:latin typeface="Times New Roman"/>
            </a:endParaRPr>
          </a:p>
        </p:txBody>
      </p:sp>
      <p:sp>
        <p:nvSpPr>
          <p:cNvPr id="75" name="PlaceHolder 2"/>
          <p:cNvSpPr>
            <a:spLocks noGrp="1"/>
          </p:cNvSpPr>
          <p:nvPr>
            <p:ph/>
          </p:nvPr>
        </p:nvSpPr>
        <p:spPr>
          <a:xfrm>
            <a:off x="502920" y="1767960"/>
            <a:ext cx="9070920" cy="5505480"/>
          </a:xfrm>
          <a:prstGeom prst="rect">
            <a:avLst/>
          </a:prstGeom>
          <a:noFill/>
          <a:ln w="0">
            <a:noFill/>
          </a:ln>
        </p:spPr>
        <p:txBody>
          <a:bodyPr lIns="0" rIns="0" tIns="28080" bIns="0" anchor="t">
            <a:normAutofit fontScale="99000"/>
          </a:bodyPr>
          <a:p>
            <a:pPr marL="427320" indent="-320400" algn="just">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rPr>
              <a:t>Pise : un outil fait de Perl / Python et qui génère des formulaires Web de soumission de job en HTML à partir de descripteurs  en XML.</a:t>
            </a:r>
            <a:endParaRPr b="0" lang="en-US" sz="3200" spc="-1" strike="noStrike">
              <a:solidFill>
                <a:srgbClr val="000000"/>
              </a:solidFill>
              <a:latin typeface="Times New Roman"/>
            </a:endParaRPr>
          </a:p>
          <a:p>
            <a:pPr marL="427320" indent="-320400" algn="just">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rPr>
              <a:t>Anciennement développé par l'institut Pasteur. Désormais plus maintenu (!) mais avec de nombreuses adapatations pour fonctionner selon nos besoins.</a:t>
            </a:r>
            <a:endParaRPr b="0" lang="en-US" sz="3200" spc="-1" strike="noStrike">
              <a:solidFill>
                <a:srgbClr val="000000"/>
              </a:solidFill>
              <a:latin typeface="Times New Roman"/>
            </a:endParaRPr>
          </a:p>
          <a:p>
            <a:pPr marL="427320" indent="-320400" algn="just">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rPr>
              <a:t>Redondance assurée par une machine tierce de relais.</a:t>
            </a:r>
            <a:endParaRPr b="0" lang="en-US" sz="3200" spc="-1" strike="noStrike">
              <a:solidFill>
                <a:srgbClr val="000000"/>
              </a:solidFill>
              <a:latin typeface="Times New Roman"/>
            </a:endParaRPr>
          </a:p>
          <a:p>
            <a:pPr marL="427320" indent="-320400" algn="just">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rPr>
              <a:t>Evolution de l'outil d'interfaçage à prévoir ? (Des solutions existent)</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03280" y="301680"/>
            <a:ext cx="9070920" cy="6456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pic>
        <p:nvPicPr>
          <p:cNvPr id="43" name="" descr=""/>
          <p:cNvPicPr/>
          <p:nvPr/>
        </p:nvPicPr>
        <p:blipFill>
          <a:blip r:embed="rId1"/>
          <a:stretch/>
        </p:blipFill>
        <p:spPr>
          <a:xfrm>
            <a:off x="-1954080" y="0"/>
            <a:ext cx="13090320" cy="7596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4400" spc="-1" strike="noStrike">
                <a:solidFill>
                  <a:srgbClr val="000000"/>
                </a:solidFill>
                <a:latin typeface="Times New Roman"/>
              </a:rPr>
              <a:t>Génèse du projet</a:t>
            </a:r>
            <a:endParaRPr b="0" lang="en-US" sz="4400" spc="-1" strike="noStrike">
              <a:solidFill>
                <a:srgbClr val="000000"/>
              </a:solidFill>
              <a:latin typeface="Times New Roman"/>
            </a:endParaRPr>
          </a:p>
        </p:txBody>
      </p:sp>
      <p:sp>
        <p:nvSpPr>
          <p:cNvPr id="45" name="PlaceHolder 2"/>
          <p:cNvSpPr>
            <a:spLocks noGrp="1"/>
          </p:cNvSpPr>
          <p:nvPr>
            <p:ph/>
          </p:nvPr>
        </p:nvSpPr>
        <p:spPr>
          <a:xfrm>
            <a:off x="502920" y="1767960"/>
            <a:ext cx="9070920" cy="5234040"/>
          </a:xfrm>
          <a:prstGeom prst="rect">
            <a:avLst/>
          </a:prstGeom>
          <a:noFill/>
          <a:ln w="0">
            <a:noFill/>
          </a:ln>
        </p:spPr>
        <p:txBody>
          <a:bodyPr lIns="0" rIns="0" tIns="28080" bIns="0" anchor="t">
            <a:normAutofit fontScale="99000"/>
          </a:bodyPr>
          <a:p>
            <a:pPr marL="339480" indent="0" algn="just">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3200" spc="-1" strike="noStrike">
                <a:solidFill>
                  <a:srgbClr val="000000"/>
                </a:solidFill>
                <a:latin typeface="Times New Roman"/>
              </a:rPr>
              <a:t>Recherche à l'interface biologie / mathématique / informatique en hausse constante (stockage, analyse des données, modélisation, méthodes...)</a:t>
            </a:r>
            <a:endParaRPr b="0" lang="en-US" sz="3200" spc="-1" strike="noStrike">
              <a:solidFill>
                <a:srgbClr val="000000"/>
              </a:solidFill>
              <a:latin typeface="Times New Roman"/>
            </a:endParaRPr>
          </a:p>
          <a:p>
            <a:pPr marL="339480" indent="0" algn="just">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3200" spc="-1" strike="noStrike">
                <a:solidFill>
                  <a:srgbClr val="000000"/>
                </a:solidFill>
                <a:latin typeface="Times New Roman"/>
              </a:rPr>
              <a:t>- mutualisation possible (matériel, concepts, outils).</a:t>
            </a:r>
            <a:endParaRPr b="0" lang="en-US" sz="3200" spc="-1" strike="noStrike">
              <a:solidFill>
                <a:srgbClr val="000000"/>
              </a:solidFill>
              <a:latin typeface="Times New Roman"/>
            </a:endParaRPr>
          </a:p>
          <a:p>
            <a:pPr marL="339480" indent="0" algn="just">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3200" spc="-1" strike="noStrike">
                <a:solidFill>
                  <a:srgbClr val="000000"/>
                </a:solidFill>
                <a:latin typeface="Times New Roman"/>
              </a:rPr>
              <a:t>- un affichage nécessaire pour exister en bioinformatique, un domaine très concurrentiel aujourd'hui.</a:t>
            </a:r>
            <a:endParaRPr b="0" lang="en-US" sz="3200" spc="-1" strike="noStrike">
              <a:solidFill>
                <a:srgbClr val="000000"/>
              </a:solidFill>
              <a:latin typeface="Times New Roman"/>
            </a:endParaRPr>
          </a:p>
          <a:p>
            <a:pPr marL="339480" indent="0" algn="just">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480" indent="0" algn="just">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3200" spc="-1" strike="noStrike">
                <a:solidFill>
                  <a:srgbClr val="000000"/>
                </a:solidFill>
                <a:latin typeface="Times New Roman"/>
              </a:rPr>
              <a:t>Création d'une plateforme soutenue par l'ISEM dès 2010.</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4400" spc="-1" strike="noStrike">
                <a:solidFill>
                  <a:srgbClr val="000000"/>
                </a:solidFill>
                <a:latin typeface="Times New Roman"/>
              </a:rPr>
              <a:t>MBB : qu'est-ce que c'est ?</a:t>
            </a: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algn="just">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rPr>
              <a:t> </a:t>
            </a:r>
            <a:r>
              <a:rPr b="0" lang="de-DE" sz="3200" spc="-1" strike="noStrike">
                <a:solidFill>
                  <a:srgbClr val="000000"/>
                </a:solidFill>
                <a:latin typeface="Times New Roman"/>
              </a:rPr>
              <a:t>Un environnement informatique pour la recherche en environnement, écologie et la biodiversité composé de :</a:t>
            </a:r>
            <a:endParaRPr b="0" lang="en-US" sz="3200" spc="-1" strike="noStrike">
              <a:solidFill>
                <a:srgbClr val="000000"/>
              </a:solidFill>
              <a:latin typeface="Times New Roman"/>
            </a:endParaRPr>
          </a:p>
          <a:p>
            <a:pPr lvl="1" marL="431640" indent="-215640" algn="just">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ea typeface="msgothic"/>
              </a:rPr>
              <a:t>La possibilité d'utiliser un certain nombre de logiciels publics du domaine de façon conviviale au travers d'une interface graphique.</a:t>
            </a:r>
            <a:endParaRPr b="0" lang="en-US" sz="3200" spc="-1" strike="noStrike">
              <a:solidFill>
                <a:srgbClr val="000000"/>
              </a:solidFill>
              <a:latin typeface="Times New Roman"/>
            </a:endParaRPr>
          </a:p>
          <a:p>
            <a:pPr lvl="1" marL="431640" indent="-215640" algn="just">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ea typeface="msgothic"/>
              </a:rPr>
              <a:t>Un site Web de travail collaboratif.</a:t>
            </a:r>
            <a:endParaRPr b="0" lang="en-US" sz="3200" spc="-1" strike="noStrike">
              <a:solidFill>
                <a:srgbClr val="000000"/>
              </a:solidFill>
              <a:latin typeface="Times New Roman"/>
            </a:endParaRPr>
          </a:p>
          <a:p>
            <a:pPr lvl="1" marL="431640" indent="-215640" algn="just">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ea typeface="msgothic"/>
              </a:rPr>
              <a:t>Un site permettant la distribution des ressources </a:t>
            </a:r>
            <a:r>
              <a:rPr b="0" i="1" lang="de-DE" sz="3200" spc="-1" strike="noStrike">
                <a:solidFill>
                  <a:srgbClr val="000000"/>
                </a:solidFill>
                <a:latin typeface="Times New Roman"/>
                <a:ea typeface="msgothic"/>
              </a:rPr>
              <a:t>maison </a:t>
            </a:r>
            <a:r>
              <a:rPr b="0" lang="de-DE" sz="3200" spc="-1" strike="noStrike">
                <a:solidFill>
                  <a:srgbClr val="000000"/>
                </a:solidFill>
                <a:latin typeface="Times New Roman"/>
                <a:ea typeface="msgothic"/>
              </a:rPr>
              <a:t>(logiciel, données...)</a:t>
            </a:r>
            <a:r>
              <a:rPr b="0" i="1" lang="de-DE" sz="3200" spc="-1" strike="noStrike">
                <a:solidFill>
                  <a:srgbClr val="000000"/>
                </a:solidFill>
                <a:latin typeface="Times New Roman"/>
                <a:ea typeface="msgothic"/>
              </a:rPr>
              <a:t>.</a:t>
            </a:r>
            <a:endParaRPr b="0" lang="en-US" sz="3200" spc="-1" strike="noStrike">
              <a:solidFill>
                <a:srgbClr val="000000"/>
              </a:solidFill>
              <a:latin typeface="Times New Roman"/>
            </a:endParaRPr>
          </a:p>
          <a:p>
            <a:pPr lvl="1" marL="431640" indent="-215640" algn="just">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ea typeface="msgothic"/>
              </a:rPr>
              <a:t>Une plateforme de calcul intensif sous linux.</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pic>
        <p:nvPicPr>
          <p:cNvPr id="49" name="" descr=""/>
          <p:cNvPicPr/>
          <p:nvPr/>
        </p:nvPicPr>
        <p:blipFill>
          <a:blip r:embed="rId1"/>
          <a:stretch/>
        </p:blipFill>
        <p:spPr>
          <a:xfrm>
            <a:off x="-1257480" y="0"/>
            <a:ext cx="12846240" cy="7559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4400" spc="-1" strike="noStrike">
                <a:solidFill>
                  <a:srgbClr val="000000"/>
                </a:solidFill>
                <a:latin typeface="Times New Roman"/>
              </a:rPr>
              <a:t>Les objectifs (i)</a:t>
            </a:r>
            <a:endParaRPr b="0" lang="en-US" sz="4400" spc="-1" strike="noStrike">
              <a:solidFill>
                <a:srgbClr val="000000"/>
              </a:solidFill>
              <a:latin typeface="Times New Roman"/>
            </a:endParaRPr>
          </a:p>
        </p:txBody>
      </p:sp>
      <p:sp>
        <p:nvSpPr>
          <p:cNvPr id="51"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gn="just">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rPr>
              <a:t>Pallier au manque de visibilité de nos domaines de recherche sur le plan informatique avec, entre autre, la distribution et la démonstration de nos logiciels et un référencement adéquat.</a:t>
            </a:r>
            <a:endParaRPr b="0" lang="en-US" sz="3200" spc="-1" strike="noStrike">
              <a:solidFill>
                <a:srgbClr val="000000"/>
              </a:solidFill>
              <a:latin typeface="Times New Roman"/>
            </a:endParaRPr>
          </a:p>
          <a:p>
            <a:pPr marL="431640" indent="-323640" algn="just">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rPr>
              <a:t>Augmenter les collaborations inter-équipes et entre les laboratoires par des développements, des calculs et des résultats partagés (maintenant LabEx CeMEB).</a:t>
            </a:r>
            <a:endParaRPr b="0" lang="en-US" sz="3200" spc="-1" strike="noStrike">
              <a:solidFill>
                <a:srgbClr val="000000"/>
              </a:solidFill>
              <a:latin typeface="Times New Roman"/>
            </a:endParaRPr>
          </a:p>
          <a:p>
            <a:pPr marL="431640" indent="-323640" algn="just">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rPr>
              <a:t>Fournir de la puissance de calcul répartie entre les laboratoires (solution à définir).</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pic>
        <p:nvPicPr>
          <p:cNvPr id="53" name="" descr=""/>
          <p:cNvPicPr/>
          <p:nvPr/>
        </p:nvPicPr>
        <p:blipFill>
          <a:blip r:embed="rId1"/>
          <a:stretch/>
        </p:blipFill>
        <p:spPr>
          <a:xfrm>
            <a:off x="-1405080" y="0"/>
            <a:ext cx="13078080" cy="7559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4400" spc="-1" strike="noStrike">
                <a:solidFill>
                  <a:srgbClr val="000000"/>
                </a:solidFill>
                <a:latin typeface="Times New Roman"/>
              </a:rPr>
              <a:t>Les objectifs (ii)</a:t>
            </a:r>
            <a:endParaRPr b="0" lang="en-US" sz="4400" spc="-1" strike="noStrike">
              <a:solidFill>
                <a:srgbClr val="000000"/>
              </a:solidFill>
              <a:latin typeface="Times New Roman"/>
            </a:endParaRPr>
          </a:p>
        </p:txBody>
      </p:sp>
      <p:sp>
        <p:nvSpPr>
          <p:cNvPr id="55"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gn="just">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rPr>
              <a:t>Aujourd'hui : </a:t>
            </a:r>
            <a:endParaRPr b="0" lang="en-US" sz="3200" spc="-1" strike="noStrike">
              <a:solidFill>
                <a:srgbClr val="000000"/>
              </a:solidFill>
              <a:latin typeface="Times New Roman"/>
            </a:endParaRPr>
          </a:p>
          <a:p>
            <a:pPr marL="431640" indent="-323640" algn="just">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rPr>
              <a:t>Faciliter l'accès pour les utilisateurs et les invités.</a:t>
            </a:r>
            <a:endParaRPr b="0" lang="en-US" sz="3200" spc="-1" strike="noStrike">
              <a:solidFill>
                <a:srgbClr val="000000"/>
              </a:solidFill>
              <a:latin typeface="Times New Roman"/>
            </a:endParaRPr>
          </a:p>
          <a:p>
            <a:pPr marL="431640" indent="-323640" algn="just">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rPr>
              <a:t>Stimuler l'animation scientifique</a:t>
            </a:r>
            <a:endParaRPr b="0" lang="en-US" sz="3200" spc="-1" strike="noStrike">
              <a:solidFill>
                <a:srgbClr val="000000"/>
              </a:solidFill>
              <a:latin typeface="Times New Roman"/>
            </a:endParaRPr>
          </a:p>
          <a:p>
            <a:pPr marL="431640" indent="-323640" algn="just">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Times New Roman"/>
              </a:rPr>
              <a:t>En faire un espace très utilisé qui vit de lui-même (côté évènementiel à développer ?)</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4400" spc="-1" strike="noStrike">
                <a:solidFill>
                  <a:srgbClr val="000000"/>
                </a:solidFill>
                <a:latin typeface="Times New Roman"/>
              </a:rPr>
              <a:t>Sur le plan technique</a:t>
            </a:r>
            <a:endParaRPr b="0" lang="en-US" sz="4400" spc="-1" strike="noStrike">
              <a:solidFill>
                <a:srgbClr val="000000"/>
              </a:solidFill>
              <a:latin typeface="Times New Roman"/>
            </a:endParaRPr>
          </a:p>
        </p:txBody>
      </p:sp>
      <p:pic>
        <p:nvPicPr>
          <p:cNvPr id="57" name="" descr=""/>
          <p:cNvPicPr/>
          <p:nvPr/>
        </p:nvPicPr>
        <p:blipFill>
          <a:blip r:embed="rId1"/>
          <a:stretch/>
        </p:blipFill>
        <p:spPr>
          <a:xfrm>
            <a:off x="1346040" y="1330200"/>
            <a:ext cx="7620120" cy="6229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12:28:00Z</dcterms:created>
  <dc:creator/>
  <dc:description>A presentation background with two circle with transparency in the edges of the slide.</dc:description>
  <cp:keywords>presentation background</cp:keywords>
  <dc:language>en-US</dc:language>
  <cp:lastModifiedBy/>
  <dcterms:modified xsi:type="dcterms:W3CDTF">2012-04-02T14:05:36Z</dcterms:modified>
  <cp:revision>14</cp:revision>
  <dc:subject/>
  <dc:title>blue_half_circle_with_transpar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icense">
    <vt:lpwstr>The Initial Developer of the Original Code is:    Andreas Mantke andreasma@openoffice.org / maand@gmx.de  Copyrigt: 2003 by Andreas Mantke, Lizenz: LGPL, The Contents of this file are made available subject to the terms of the following license       - GNU Lesser General Public License Version 2.1GNU Lesser General Public License Version 2.1 or newer, , This library is free software; you can redistribute it and/ormodify it under the terms of the GNU Lesser General PublicLicense version 2.1 or newer, as published by the Free Software Foundation.This library is distributed in the hope that it will be useful,but WITHOUT ANY WARRANTY; without even the implied warranty ofMERCHANTABILITY or FITNESS FOR A PARTICULAR PURPOSE.See the GNU Lesser General Public License for more details.You should have received a copy of the GNU Lesser General PublicLicense along with this library; if not, write to the Free SoftwareFoundation, Inc., 59 Temple Place, Suite 330, Boston,MA  02111-1307  USA</vt:lpwstr>
  </property>
</Properties>
</file>